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2B4-DA1B-426E-AAC1-0D9CB00D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E6B-5F59-47C0-AB59-EEA9F9E5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E26-E334-43D4-B544-20252844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902-99F6-480C-824D-B7F4307B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B80-C277-4DA0-B565-697A7983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F4F-DE66-4185-8830-EFF03848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6F5-8DD4-4BBC-831A-F69BE037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5FF-D202-41EB-96C2-5C315895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501-8A57-4B88-BB2D-4BFAC3D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BB6-A5DF-4375-B563-72E4A62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660-2C20-48CE-8F04-310807D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C10-441A-47A0-A7ED-982151F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22D5-A00E-409F-9B54-831B4E6E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hapters 35 and 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y Hanna, Stacey Zarko, Andy Kende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14600" y="1523880"/>
            <a:ext cx="4191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Unit 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crease 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Decrease demand for im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Price first, quantity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Work to shrink 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cre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Quantity first, price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a quota profits from the price increases in the importing country go in the pockets of domestic sellers of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 a tariff, some of the profits go as tax revenue to the government of the importing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s award its import licenses based on specific information (first come, first served based on past sales, political crite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 handicaps all foreign suppliers equally and rewards sales to the firms and nations that are the most efficient and can supply goods chea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States the price, in terms of one currency, at which another currency can be b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ing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xchange rate for every pair of curren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xchange rate determined in a free market by the law of supply and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Demand side comes from the want to buy a country’s goods and services, financial instruments  and physical as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Exchange R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side comes from the need to buy another nations currency in order to purchase its goods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Sell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Increases supply on world market</a:t>
            </a:r>
            <a:r>
              <a:rPr b="0" lang="en-US" sz="2400" spc="-1" strike="noStrike">
                <a:solidFill>
                  <a:srgbClr val="0099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Exchange Ra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eciation of Cur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Currency can buy more of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The price of a currency in terms of another incr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reciation of Cur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Currency can buy less of another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The price of a currency in terms of another decr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Run: relative infl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Currency values will be appreciating in countries whose inflation rates are lower than the rest of the world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Calibri"/>
              </a:rPr>
              <a:t>Buyers demand their goods, thus drive up curren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High inflation rates in Country A causes the country to sell its currency to buy Country B’s foreign currency:  DEPRE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4"/>
          <p:cNvSpPr/>
          <p:nvPr/>
        </p:nvSpPr>
        <p:spPr>
          <a:xfrm flipH="1">
            <a:off x="1750680" y="4191120"/>
            <a:ext cx="32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1752480" y="5942160"/>
            <a:ext cx="1752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"/>
          <p:cNvSpPr/>
          <p:nvPr/>
        </p:nvSpPr>
        <p:spPr>
          <a:xfrm flipH="1">
            <a:off x="5105520" y="4191120"/>
            <a:ext cx="14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5106960" y="594216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685800" y="426708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114800" y="426708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2438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586728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228600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563868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6"/>
          <p:cNvSpPr/>
          <p:nvPr/>
        </p:nvSpPr>
        <p:spPr>
          <a:xfrm>
            <a:off x="1828080" y="4267080"/>
            <a:ext cx="152388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8"/>
          <p:cNvSpPr/>
          <p:nvPr/>
        </p:nvSpPr>
        <p:spPr>
          <a:xfrm flipV="1">
            <a:off x="1905120" y="4267080"/>
            <a:ext cx="137160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2438280" y="4572000"/>
            <a:ext cx="106704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3352680" y="5638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32767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35053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2894400" y="472392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Straight Connector 28"/>
          <p:cNvSpPr/>
          <p:nvPr/>
        </p:nvSpPr>
        <p:spPr>
          <a:xfrm>
            <a:off x="5333400" y="4267080"/>
            <a:ext cx="152388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9"/>
          <p:cNvSpPr/>
          <p:nvPr/>
        </p:nvSpPr>
        <p:spPr>
          <a:xfrm flipV="1">
            <a:off x="5410080" y="4267080"/>
            <a:ext cx="1371600" cy="1524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678168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1"/>
          <p:cNvSpPr/>
          <p:nvPr/>
        </p:nvSpPr>
        <p:spPr>
          <a:xfrm>
            <a:off x="67057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33"/>
          <p:cNvSpPr/>
          <p:nvPr/>
        </p:nvSpPr>
        <p:spPr>
          <a:xfrm>
            <a:off x="5715000" y="411480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4"/>
          <p:cNvSpPr/>
          <p:nvPr/>
        </p:nvSpPr>
        <p:spPr>
          <a:xfrm>
            <a:off x="69343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7"/>
          <p:cNvCxnSpPr/>
          <p:nvPr/>
        </p:nvCxnSpPr>
        <p:spPr>
          <a:xfrm flipV="1">
            <a:off x="6476040" y="51807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Box 38"/>
          <p:cNvSpPr/>
          <p:nvPr/>
        </p:nvSpPr>
        <p:spPr>
          <a:xfrm>
            <a:off x="1981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9"/>
          <p:cNvSpPr/>
          <p:nvPr/>
        </p:nvSpPr>
        <p:spPr>
          <a:xfrm>
            <a:off x="5334120" y="6248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um Run: economic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alibri"/>
              </a:rPr>
              <a:t>Economic boom sees Country A spending more on imports from Country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alibri"/>
              </a:rPr>
              <a:t>To do this, Country A buys Country B’s currency, making its demand incr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3"/>
          <p:cNvSpPr/>
          <p:nvPr/>
        </p:nvSpPr>
        <p:spPr>
          <a:xfrm flipH="1">
            <a:off x="2055960" y="4343400"/>
            <a:ext cx="288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4"/>
          <p:cNvSpPr/>
          <p:nvPr/>
        </p:nvSpPr>
        <p:spPr>
          <a:xfrm>
            <a:off x="205740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5"/>
          <p:cNvSpPr/>
          <p:nvPr/>
        </p:nvSpPr>
        <p:spPr>
          <a:xfrm flipH="1">
            <a:off x="5409720" y="4343400"/>
            <a:ext cx="180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6"/>
          <p:cNvSpPr/>
          <p:nvPr/>
        </p:nvSpPr>
        <p:spPr>
          <a:xfrm>
            <a:off x="541188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99072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41972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74320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17220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59092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594360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3"/>
          <p:cNvSpPr/>
          <p:nvPr/>
        </p:nvSpPr>
        <p:spPr>
          <a:xfrm>
            <a:off x="2133000" y="4419720"/>
            <a:ext cx="152388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4"/>
          <p:cNvSpPr/>
          <p:nvPr/>
        </p:nvSpPr>
        <p:spPr>
          <a:xfrm flipV="1">
            <a:off x="220968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5"/>
          <p:cNvSpPr/>
          <p:nvPr/>
        </p:nvSpPr>
        <p:spPr>
          <a:xfrm flipH="1">
            <a:off x="2742840" y="4724280"/>
            <a:ext cx="106668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365760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35812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38098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19"/>
          <p:cNvCxnSpPr/>
          <p:nvPr/>
        </p:nvCxnSpPr>
        <p:spPr>
          <a:xfrm>
            <a:off x="3199320" y="48765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Straight Connector 20"/>
          <p:cNvSpPr/>
          <p:nvPr/>
        </p:nvSpPr>
        <p:spPr>
          <a:xfrm>
            <a:off x="5638680" y="4419720"/>
            <a:ext cx="1524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1"/>
          <p:cNvSpPr/>
          <p:nvPr/>
        </p:nvSpPr>
        <p:spPr>
          <a:xfrm flipV="1">
            <a:off x="571500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708660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70102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6019920" y="426708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723888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6"/>
          <p:cNvCxnSpPr/>
          <p:nvPr/>
        </p:nvCxnSpPr>
        <p:spPr>
          <a:xfrm flipV="1">
            <a:off x="6780600" y="533340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TextBox 27"/>
          <p:cNvSpPr/>
          <p:nvPr/>
        </p:nvSpPr>
        <p:spPr>
          <a:xfrm>
            <a:off x="228600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563868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Run: relative interest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High interest rates in Country A causes high demand for their financial instruments, thus demand for their currency increases and supply of Country B’s currency decreases: APPREC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3"/>
          <p:cNvSpPr/>
          <p:nvPr/>
        </p:nvSpPr>
        <p:spPr>
          <a:xfrm flipH="1">
            <a:off x="2133720" y="4343400"/>
            <a:ext cx="14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4"/>
          <p:cNvSpPr/>
          <p:nvPr/>
        </p:nvSpPr>
        <p:spPr>
          <a:xfrm>
            <a:off x="213516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143000" y="4419720"/>
            <a:ext cx="838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A’s currency in terms of B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89548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66688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"/>
          <p:cNvSpPr/>
          <p:nvPr/>
        </p:nvSpPr>
        <p:spPr>
          <a:xfrm>
            <a:off x="2361600" y="4419720"/>
            <a:ext cx="152388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9"/>
          <p:cNvSpPr/>
          <p:nvPr/>
        </p:nvSpPr>
        <p:spPr>
          <a:xfrm flipV="1">
            <a:off x="243828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380988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37339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2"/>
          <p:cNvSpPr/>
          <p:nvPr/>
        </p:nvSpPr>
        <p:spPr>
          <a:xfrm>
            <a:off x="2743200" y="4267080"/>
            <a:ext cx="129528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39625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14"/>
          <p:cNvCxnSpPr/>
          <p:nvPr/>
        </p:nvCxnSpPr>
        <p:spPr>
          <a:xfrm flipV="1">
            <a:off x="3504240" y="533340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8" name="TextBox 15"/>
          <p:cNvSpPr/>
          <p:nvPr/>
        </p:nvSpPr>
        <p:spPr>
          <a:xfrm>
            <a:off x="2362320" y="6400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6"/>
          <p:cNvSpPr/>
          <p:nvPr/>
        </p:nvSpPr>
        <p:spPr>
          <a:xfrm flipH="1">
            <a:off x="5789160" y="4343400"/>
            <a:ext cx="3240" cy="1752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7"/>
          <p:cNvSpPr/>
          <p:nvPr/>
        </p:nvSpPr>
        <p:spPr>
          <a:xfrm>
            <a:off x="5791320" y="6094440"/>
            <a:ext cx="1752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4724280" y="4419720"/>
            <a:ext cx="838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 of B’s currency in terms of A’s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477120" y="3962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6324480" y="6095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of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1"/>
          <p:cNvSpPr/>
          <p:nvPr/>
        </p:nvSpPr>
        <p:spPr>
          <a:xfrm>
            <a:off x="5867280" y="4419720"/>
            <a:ext cx="152424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22"/>
          <p:cNvSpPr/>
          <p:nvPr/>
        </p:nvSpPr>
        <p:spPr>
          <a:xfrm flipV="1">
            <a:off x="5943600" y="4419360"/>
            <a:ext cx="1371600" cy="152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3"/>
          <p:cNvSpPr/>
          <p:nvPr/>
        </p:nvSpPr>
        <p:spPr>
          <a:xfrm flipH="1">
            <a:off x="6476760" y="4724280"/>
            <a:ext cx="1066680" cy="1219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739152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73152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754380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/>
          <p:nvPr/>
        </p:nvCxnSpPr>
        <p:spPr>
          <a:xfrm>
            <a:off x="6933240" y="487656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1" name="TextBox 28"/>
          <p:cNvSpPr/>
          <p:nvPr/>
        </p:nvSpPr>
        <p:spPr>
          <a:xfrm>
            <a:off x="6019920" y="64008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30"/>
          <p:cNvSpPr txBox="1"/>
          <p:nvPr/>
        </p:nvSpPr>
        <p:spPr>
          <a:xfrm>
            <a:off x="685800" y="533520"/>
            <a:ext cx="7848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Appreciation vs. Depreciatio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 Rec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Import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ign countries lose profit from their ex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Causes  recession in those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743200" y="15228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US Related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1905120" y="76212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Foreign Reces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trade with other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arth’s resources are not equally distributed across the pla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very nation has to trade for what it l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Efficiency/spec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US could produce just about everything but may not be as good at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r>
              <a:rPr b="0" lang="en-US" sz="2400" spc="-1" strike="noStrike">
                <a:solidFill>
                  <a:srgbClr val="0066ff"/>
                </a:solidFill>
                <a:latin typeface="Calibri"/>
              </a:rPr>
              <a:t>: A country devotes its energies and resources to only a small proportion of the world’s productiv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295280" y="3808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Trade Between Na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Mutual G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‘’</a:t>
            </a: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voluntary exchang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alibri"/>
              </a:rPr>
              <a:t>Redistributing products so that both parties end up holding more preferred combinations of goods than they held bef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In order for trade to take place, there has to be a reason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Exporting country must have something to sell in surplus (QD less than Q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alibri"/>
              </a:rPr>
              <a:t>Importing country must need to buy the product that’s in surplus, putting them in a shortage (QS less than Q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295280" y="380880"/>
            <a:ext cx="6477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Impact"/>
              </a:rPr>
              <a:t>Trade Between Na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66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lute vs. Comparative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bsolute: What a country has if in the production of a particular good it can produce that good using less resources than another country can- who is more effici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A country can produce more with the same amount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libri"/>
              </a:rPr>
              <a:t>2 countries, 1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alibri"/>
              </a:rPr>
              <a:t>Comparative: What a country has over another in the production of a particular good relative to other goods if it produces that good least inefficiently as compared to the other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alibri"/>
              </a:rPr>
              <a:t>2 countries 2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Calibri"/>
              </a:rPr>
              <a:t>Determine which country has the lowest opportunity cost of producing one more of a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d60093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d6009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world uses comparative advantage rather than absolute advantage as the basis for trad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World output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World can consume more because more is produced with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Consumption possibilities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Efficiency/production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Lower opportunity 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1219320" y="609480"/>
            <a:ext cx="6629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Comparative vs. Absol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152280" y="1522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ne hour of lab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04920" y="87804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15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10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447920" y="6206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2280" y="199224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04920" y="2630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.2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.5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838080" y="2297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ore Car         1 mor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0"/>
          <p:cNvSpPr/>
          <p:nvPr/>
        </p:nvSpPr>
        <p:spPr>
          <a:xfrm flipH="1">
            <a:off x="4951080" y="685800"/>
            <a:ext cx="324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1"/>
          <p:cNvSpPr/>
          <p:nvPr/>
        </p:nvSpPr>
        <p:spPr>
          <a:xfrm flipH="1">
            <a:off x="4952520" y="3429000"/>
            <a:ext cx="1800" cy="198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4952880" y="2666880"/>
            <a:ext cx="1905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4952880" y="5410080"/>
            <a:ext cx="190512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5486400" y="304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4100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 rot="16200000">
            <a:off x="4375080" y="27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 rot="16200000">
            <a:off x="4375080" y="3016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858000" y="54100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685800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4610160" y="7621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2"/>
          <p:cNvSpPr/>
          <p:nvPr/>
        </p:nvSpPr>
        <p:spPr>
          <a:xfrm>
            <a:off x="4572000" y="35053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3"/>
          <p:cNvSpPr/>
          <p:nvPr/>
        </p:nvSpPr>
        <p:spPr>
          <a:xfrm>
            <a:off x="4572000" y="3809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552456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6019920" y="26668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6019920" y="541008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8"/>
          <p:cNvSpPr/>
          <p:nvPr/>
        </p:nvSpPr>
        <p:spPr>
          <a:xfrm>
            <a:off x="4952160" y="914400"/>
            <a:ext cx="685800" cy="17524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30"/>
          <p:cNvSpPr/>
          <p:nvPr/>
        </p:nvSpPr>
        <p:spPr>
          <a:xfrm>
            <a:off x="4952160" y="3962520"/>
            <a:ext cx="1143000" cy="14475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>
            <a:off x="4952160" y="914400"/>
            <a:ext cx="1143000" cy="1752480"/>
          </a:xfrm>
          <a:prstGeom prst="line">
            <a:avLst/>
          </a:prstGeom>
          <a:ln w="936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3"/>
          <p:cNvSpPr/>
          <p:nvPr/>
        </p:nvSpPr>
        <p:spPr>
          <a:xfrm>
            <a:off x="4952160" y="3657600"/>
            <a:ext cx="1143000" cy="1752480"/>
          </a:xfrm>
          <a:prstGeom prst="line">
            <a:avLst/>
          </a:prstGeom>
          <a:ln w="936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0" y="3962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olute advantage in cars? </a:t>
            </a: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olute advantage in planes? </a:t>
            </a: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rative advantage in cars? </a:t>
            </a: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rative advantage in planes? </a:t>
            </a: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152280" y="5791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barter price is 1 plane = 3 c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ountry specializes in the product in which it has a comparative ad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586728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tted line = the consumption possibilities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76320" y="333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     15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      10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219320" y="76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0" y="1219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ountry has four million hours split evenly between the production of both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6320" y="18684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30 mill          6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20 mill         10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      50 mill         16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219320" y="1611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0" y="31640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ada moves 500,000 to the production of the product of its comparative advantage and Germany moves 700,000 to the production of the product of its comparative advan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6320" y="39528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alibri"/>
              </a:rPr>
              <a:t>Canada      37.5 mill     4.5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alibri"/>
              </a:rPr>
              <a:t>Germany  13 mill         13.5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       50.5 mill     18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219320" y="3697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s         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2"/>
          <p:cNvCxnSpPr/>
          <p:nvPr/>
        </p:nvCxnSpPr>
        <p:spPr>
          <a:xfrm flipV="1">
            <a:off x="606960" y="5258520"/>
            <a:ext cx="3960" cy="305640"/>
          </a:xfrm>
          <a:prstGeom prst="straightConnector1">
            <a:avLst/>
          </a:prstGeom>
          <a:ln w="9360">
            <a:solidFill>
              <a:srgbClr val="d60093"/>
            </a:solidFill>
            <a:miter/>
            <a:tailEnd len="med" type="arrow" w="med"/>
          </a:ln>
        </p:spPr>
      </p:cxnSp>
      <p:cxnSp>
        <p:nvCxnSpPr>
          <p:cNvPr id="92" name="Straight Arrow Connector 13"/>
          <p:cNvCxnSpPr/>
          <p:nvPr/>
        </p:nvCxnSpPr>
        <p:spPr>
          <a:xfrm flipV="1">
            <a:off x="608400" y="5637960"/>
            <a:ext cx="2520" cy="3056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93" name="TextBox 14"/>
          <p:cNvSpPr/>
          <p:nvPr/>
        </p:nvSpPr>
        <p:spPr>
          <a:xfrm>
            <a:off x="762120" y="52689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762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umption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iff: tax on im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ota: a legal limit on the amount of a good that may be impo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Both restrict supplies coming in from abroad and drive up prices in the importing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libri"/>
              </a:rPr>
              <a:t>Any restriction of imports accomplished by a quota can also be accomplished by a tari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2209680" y="533520"/>
            <a:ext cx="44960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Impact"/>
              </a:rPr>
              <a:t>Tariffs vs. Quo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2:09Z</dcterms:created>
  <dc:creator>Sth_User</dc:creator>
  <dc:description/>
  <dc:language>en-US</dc:language>
  <cp:lastModifiedBy>jwussler</cp:lastModifiedBy>
  <dcterms:modified xsi:type="dcterms:W3CDTF">2009-01-27T15:14:11Z</dcterms:modified>
  <cp:revision>18</cp:revision>
  <dc:subject/>
  <dc:title>Unit 10</dc:title>
</cp:coreProperties>
</file>